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CFDA-FDE8-46AA-8A30-004003AF8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43B3-57D0-4B21-A05E-1456E3E64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03CE9-721B-4999-9EC3-1B1241629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4462E3-309B-405A-AFD8-AB8D87F6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119ABA-D79E-4B3D-8CF5-3CC9A681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5DE686-9DAE-4F94-BD62-B8746839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10701-B35A-4ED9-93F0-09FCB6635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1625FD-2DBE-4EF6-B67A-93369F7C6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68F31D-6A99-4FE0-90C9-622F090E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B4DD1C-C25E-49FD-9F04-49858242E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FAF25C-8640-443C-8DC6-DFA763591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538CE0-C6A9-4E91-9C55-8C90EBAF1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E334-2DE3-4E2B-A967-E14FBF3D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F75A5-33FA-42E8-96E5-B0CA405B3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0EB3B1-87FA-4199-8B57-4819BD87D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E18B72-A78E-4ADD-8EF7-4514467F0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175E5A-7A2B-480C-8B83-58ED5493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22C7F-C5B5-4BC7-AA0E-35F3856F7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6922A-B31D-48C6-A8A7-C3C8F8AF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BB8D75-91E0-4E0F-98BD-A4371CAE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61DD42-3F2D-4148-AD4D-8010E596B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E5FAB6-BB78-4734-B9D4-AD0E7DE7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CF216-51FA-4D00-B35B-53B57E86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E4BD-3A20-4C54-AEF5-5061E99F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7A8390-94CC-4EC6-9D41-0F832AB0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4C2527-740C-4790-9B10-D2F9765E2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C635C4-6E92-4E18-A046-01874EACB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BB128F-DD4A-4EF7-95CA-172CC8D8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7F1FA7-99FE-4985-A9B1-77655D9F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8466AE-D17D-4187-A2FA-1C99871F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85193-EFA8-448F-ACB0-74F8F2E8F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E3496D-DA0E-4B14-B58D-68622095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F06081-E7D8-46AF-842F-EB87D07CB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DC279F-FDE3-4DFF-AA6B-52E757DB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4C13E-190C-4EF2-B3A4-B46135D3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E29499-9B52-422D-9D56-CC18EC32C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659B3-A218-4BB0-BFA4-877E10C42A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A8B375-5828-4C22-B5C2-2B981D6E6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9CC715-EC95-476A-96B1-363433A5B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FC2115-ECA6-468B-B12E-DA336D434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9CD9C5-A0D1-43B5-A9EB-459DD6C14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4A35A0-A642-49A7-B8AB-725BF9CA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9AED0D-2D1B-4012-9EEC-CA4FB37A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E979632-D64C-4E7C-82EA-8EC8515E7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A00FE9-EBE0-46EA-9F35-2D71BFC4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4D669-5163-4245-8AE2-0C35C2230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F2DE85-DEEB-4E01-A447-C5A01F7D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A15F4-A08B-4281-8D74-5F1E5A72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9B34E9-0076-4F5C-87C0-AAC60C07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E996B9-6D09-43DE-A76D-30C535BB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A6D5AA-4158-4AAD-9A93-BC18A217E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5C6199-EE02-4F35-90B6-7242E97E8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820251-A027-4EB1-9433-39DEBC57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4DAF38-3C9B-480F-82B5-DC907D826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B52A53-89E4-4230-95BB-9FE7585C4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86028F-4FEA-4DC5-A6BE-FB61C4740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7FA4-DF5A-493A-8D5E-7220A8C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C01761-02C8-478D-A2CF-6DCB1BA45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F61FD-E560-470A-8059-DA182AC48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A329BE-724A-4350-AEB9-163DE1CB3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DA124E-5227-4124-AEA4-0E3837483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323C82-0F67-4C43-B936-78500CC88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F7BE47-EA35-430C-9E4B-0026B59DF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01F1B-B347-4552-8B2D-E7B83A182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17A07-36FC-4D6A-9733-92DFC9428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7CE337-AA9B-4798-896F-69F6358EB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750F81-3381-4656-9619-9E9BC3353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D2F9F-ACC1-4A2E-A09A-4D549E5C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171B86-F051-4C01-A92A-95680A02C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F4A2E-1565-4040-977F-AFB12426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3709011-3822-42A2-BACE-6C812AA4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EE7CF4-0800-4DA6-857B-4E602F92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3BF7DC-7C9F-435C-A628-59850740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3C2118-8A24-4814-8D09-FBBB6982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476A24-121F-48BA-B2C6-4A77F7CA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0E7F69-F86C-46CB-B8A6-35F0A3EE4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F5066-7DA2-4DA1-8308-C292D1A12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2DAB3F-17FB-41F9-B51C-7B6A7C5314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7C81-E7C9-42F0-AFCA-0A7DE55B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B80A21A-0350-4223-84AA-B1E60177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6BFFC5-DA38-48C0-B931-612F4021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FA99FAF-3C63-45B4-B644-9CEAAA8A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E0734-DE73-48DB-B70A-49C95A1B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2986AF6-D7EA-44FE-93DD-EE6263663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A3022C-CDAB-4C4F-A2F7-3A98F9150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A23237A-DB10-4D29-969F-97980EE4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F12BB-EBD5-465E-806F-18E7BBA82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022058-694E-4529-A72B-97A23561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765732-C1B6-496A-A50C-81B80D83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D8559-2127-4FEE-AE42-970E8689C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C5270-6633-4D0B-94BE-17EA3F9A9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1F2995-5FE5-457E-9646-5D7BB916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D9DE57-4595-42E1-9F63-E0425058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E3062E-910F-4EB0-A2FE-D8B2BBAEB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6A724C-63AC-4299-9B34-4DAEC9FBB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351EF3-2D56-4EEA-8E17-891CF043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915226-F93C-4076-8071-735FC5D8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4A60B2-0A66-4043-8D12-D596DDB96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35E555-3CFD-4C53-9D3C-023D7044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4CF1D22-6096-47A4-AA43-E2ED3B38D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F7820-B6B7-4ECA-A019-C0B098FF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01D023-192B-45AC-BA77-E778B19D5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325422-686F-4AA7-9FFA-25EE88125D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558687-E53D-4532-A5B5-2618270B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9E26DD-4269-453F-8E6F-FCDA042D5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7E7F07-D2EB-4C1D-AC4F-E3B43ADB6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7A94FF-7F6A-4B6C-8EA9-E112878FE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1B873B-FB11-44D5-B24B-7CCC3E95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2CFA7A-DE90-475E-AFA8-F0E704EF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5FAA0A-4B3C-46C4-92A9-0E80CB93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3AB108-81AD-4DA0-A08D-E82CEFBD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F1132-ACB3-4F21-92D3-568818918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2EFE4-25F8-46DE-A404-C4420023B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BA2FCE-8B0E-4187-AB66-586CD6DDE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F42F189-D784-491A-AE4F-E6B55ED1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BA601-FEA4-4E62-9926-73D97335F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782619-5655-4CB0-AC22-8253064F5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1AC6A5C-57D5-4DAA-9F4B-3901FFE69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2F24CE-1C37-4A08-BA62-C2A3D9D5D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0EF80E-8EC7-499B-8FCF-909531DB5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4053A5-2042-465D-B872-911BAECA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68A140-961F-4105-9B82-FB3DED82D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9F74A1-6840-454E-A20E-2EA962684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5CFF-91E9-420E-9C29-ADEFE8993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E99F2C-2476-44FD-944D-C3E5783E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AD1490-F609-40C2-A081-46E968C9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BCE581-F062-4A13-93C9-2156B92C6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02E50F-0325-4B0D-A091-C8427C24F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A4BC71-3A8B-4060-8694-441BB0E2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64E407C-3D43-49A1-8527-575C81984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96EE01-648B-4A6E-8E2D-378BABB6F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EC96C-D142-48FA-A89E-6C5E9C53E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72ADD-FD15-449E-9B1C-9A1540D5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186FFB5-32C2-4657-A6D9-C57942E99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3C96-5058-4951-8727-C37C1E6C2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FB3EEC-CC92-4630-8817-28D1906D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DC4A75-DAC5-45F9-8199-7FF2ABA59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D91E1F-E87E-443D-9F82-FBD00D81A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B5E3D6-D74F-4FAF-B96F-FAE2D5FF0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9CEF1C-4666-43F7-8AD9-3E52EB29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5C10C5-C9AC-4FC7-8845-705A235A5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9B359C-67D8-4ED3-9926-7829A560D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373911-CC88-4872-9032-248C6F04E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A1F3D44-F85C-463A-AFF9-AA757691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ABE19E2-8D0C-4449-AC8E-71046D6DF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B3D4-2553-417E-A202-D818E6A8B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BD9DDA-9213-4820-A6DE-565FEDB8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099112-41EF-4A1B-812B-6DBAF94B6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9937D-F96B-4D62-B429-A17529ED9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531023-7B20-48C1-AFAA-2ABACEBB9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78C5F4-7C51-45C0-BB21-C011BDF21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1CB22C-0208-434D-BF7D-FD6163DC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2E9375-3D4B-4CEF-B51E-83D8F3E49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7044EFE-71ED-4E61-8F18-26ECD2185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43599E-B671-4D5C-8722-B54A16A92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D475D1-98C0-4D3E-949B-28714BA82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8E90B-95DA-4458-92B1-DDC724869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7AC1A-7711-46A3-90AD-37742555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7B4301-47C8-4ED0-816A-413B5F60F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EB6AA5-F213-4253-A9B7-362D3ADC4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885040-61C8-445B-B204-AC42976C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356C5-DB5C-41E0-9531-F6F24A5AF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EE32302-4A48-4191-97C1-EAABD6C6C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5DE3BA-08FD-4837-81CB-E4E38598C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7951A2A-6F02-45B4-80A4-CF00216C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1806E4D-EFDE-4134-A4C4-2C2EA3589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C62241-0072-487D-9696-94E9A928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EEADBC-F45B-4FA8-8ED4-F3BB1A3C7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5F5987E-0459-4D00-83FF-E6EA66427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62CFC-985D-4D69-A20F-064D9359B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5BDFBCD-78DE-4E6B-B12A-488F20291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934105D-EBE9-42FF-B4E0-D48DDC542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B86845-D063-4825-88A5-9557A162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DAA93EA-9646-407D-8979-B490583A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65F6F3E-3324-486D-9C84-895F4B63B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491BA3B-17EC-4514-82D5-D94BBBE7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0794FDC-14A8-4952-9807-C0BDF8C7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9358EE-59AA-4445-B478-B3BDB8BA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170DE2-3D9F-4F71-8B78-EF20BE225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8B664D1-E261-4FC9-B05D-7ECBEA62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352898-0891-4EBE-8AD0-73BE83530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D6D0839-EF2D-4BA0-B4AF-2D7257A2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E6608E-D8AD-47F8-A46F-9CBCDAF566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7BF7CF9-D02F-4917-BEE7-53072ABBD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DB833F5-5982-486B-8694-C308CCF87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853A2A-D5C1-4834-80EC-3C689299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B4F6E9-2A21-49B1-8D84-CCEF8F7E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821DAE-693D-49E7-9994-E08BD2111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98EEB15-57E0-4847-ACED-60B4AE83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3DC868-FB6C-41A8-8B19-407CD4FF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CD1ED0-7FEA-4524-938F-5F83894A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ECBA1EF-D9E7-4CAD-A1A3-8AE2DCF4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86AF7F0-D5D4-4413-91A4-1251A9B37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0922D3B-F86E-4BC4-BB7C-C3969B0DB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9BDDFE-7005-4B85-8196-1398C7A13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1026CC-28DE-4492-BD44-1E03DC147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60B262-50BC-42DC-8884-B057DB6D0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332BC0-0A8A-44BD-9D5E-690183702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F9AF85-7CD7-438A-830A-1FF7F217D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0491ED-7D3B-4DE5-B7F9-AA84CE776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FCC8C9-C549-4F2F-82E9-5CACA7CF9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D17400-B8A3-4D07-8548-AF7442B67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7442860-D336-45C8-9B8B-0299FED25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5A0A832-BF45-40F7-B81F-0584813E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E570B2-EBCE-4840-8798-B08177E15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7D4CD72-3CAB-4AAF-8329-EA1FE6D3E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C76B8D7-2399-4238-9C92-DA6332A0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F7B20B7-7117-45B6-BC79-9418DECA9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E38970-0A88-4760-9BC9-9BC6EAEC59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0DDF954-D0B8-4A96-B3A7-62D657620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01CC644-2B93-4CEB-868D-74934133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33DA4-1D8D-4F2F-BCF8-61BA2BC2C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884A71A-E05F-491B-93CE-17AC099C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F38C9A0-5B0F-4DE1-980E-69FDC2C0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AC5D64-F2BC-4300-8DB1-5D7105400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F7BC17-D017-4C56-82DD-E58CCEA3B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94FDE5-FE8D-4721-A4E6-2B9531F03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1781E1-BA33-4AA1-879B-877A7D23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2F0A599-49B1-40D4-B900-84E9B936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727256-DD54-4460-9846-36FAE6EC2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E8DCCA6-597A-4A12-8925-B552C0807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78D9EE-2CAB-428B-883F-932B424C2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4447A-4413-46D4-B390-E6E51CFCC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5AB6C5-BF39-4460-83DF-CBE3FB2B5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5AB9FA8-FE06-423E-8D16-029A38417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34F528-32AA-459D-BCB9-66E6B82D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F78970B-63D5-4903-ACB1-BF6992FCF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F1C514E-5DBF-4755-9675-28A0848A9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449F80-D26C-4BE4-9D29-550D0E8A5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6BCC9F-2DB1-48A6-957E-9DEF133D8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8FEA528-0071-4440-BFC5-BCF0F690C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7C164DF-D489-4E89-8F67-8940E851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C46354-7C97-45D8-B625-02BBB41E6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E716B49-3473-4DD4-BE53-4D50142E4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0DDA2-1C48-4C58-BC7C-6CC1FAD42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D8A098-4CBE-4744-8D02-4664162C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D5E4C55-99C9-498D-A08A-A8E93A37C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F582A01-9BEC-488D-827A-9F1520ED8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514CA00-F8BD-4FB0-8D6D-03B2EEFE2B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5F41B5-EFC3-4265-9FB3-5458F3292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AE7560-FF15-41B9-AF22-2CDA889A8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94CB72F-80A1-4232-AF46-D0E63CB4C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EBFA72-1C1B-447C-9AFA-31D458015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EA0EF1-FAED-47FA-80D9-53D2EF8D6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FE67D5C-A5D9-4555-B776-4D71BFDA9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CDC4B-665F-4722-AF57-B5AA086C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05AEE6-A649-4057-9E48-78D0B8F53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DCE62AF-2E64-4439-8BE1-B93DB3AF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44E8640-269B-4FCB-8538-783507199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007CBAA-CD9B-4FDD-8B5A-F53BB7813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EAB264-0FEB-4DEA-96E5-500362C6B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76B001-CB7F-4BD8-A447-655F5E5B1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4890353-0FFA-4EC0-9509-B13BEE784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9A89AB-C54D-41E0-84E2-763CFD349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768E5A-D3F3-471A-8C8B-32C4D5B0D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C4A0D34-1A1B-4EF0-88C7-55D067D3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A45D1-6E6C-4FE5-8708-858D3D1A4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C5CA257-187C-4C77-B031-8D4F3BB51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959AABE-0457-4A0A-BE29-3BE6A7F4C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724472-32BD-4B5E-B3A4-9EE91665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9A65A20-5D1A-455D-B15F-57E1F55B6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7F6988-3081-4E00-9B50-52A092FEB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32F6EEF-F4CC-48C7-9D0D-69138DB03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73E7CC2-A459-4B02-B10E-199B63D6A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6F4D9E-6F8B-4A76-8563-00F5D1B9B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02032F-7A53-4206-BDFF-B25E4A1DC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2B9A4B-A5E5-4E5E-BCAF-621825DFB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9F44DC-0585-4BD9-A479-19964C93E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4587A2-7B16-414D-B363-B91AC31F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26AAB4E-2913-4147-B79D-7B8774384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D9FC18B-FC84-481A-A90F-9B9D8FD48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34AFC4-F26C-455E-8306-E66F258E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731A73-0A4F-41D9-B38E-8A398759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DEA4781-D042-4208-B9AD-F855EFA6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DAA8DDF-32FF-45BC-B2B6-B1A1877D8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1EF5CD-A3F9-4BD2-985D-19DA6AAB5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BCE00D5-35E1-48B7-A2DB-23B64B523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330AA23-BF84-4CED-8DD7-31470A2E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7723C9-F849-41BE-81AE-6947CFFAB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DEC374A-542C-4F3D-96FA-D2FCE8366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5EB61A7-057B-4700-A558-930364DC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AA2C09C-7F39-401E-9FC9-EAF59A400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7DA648-AD22-4F4A-94F6-94DAD6CB7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246CF6-1197-4A2A-A2F9-2FDD4404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3DCDE36-DA01-46DF-9880-55F24DF4B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6519EB-1EDD-4156-803E-ED121A4CE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EB4B258-0409-442D-B2DE-FA09F8F02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85E53D-F102-4E82-9FA2-C1623C1EB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A2DE6F5-356B-4201-9B74-BB3AF1937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9A488-1E15-4071-B0CB-A184F3DB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79287DD-1BB9-49A1-9475-1F2ADD3DC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60C6147-F738-4849-A83E-674392399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A40B90B-7CEC-4238-9FC9-1D9F2B4A8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3FCE3C3-C9B4-4996-8658-2BD7C1208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A615021-3B80-43F9-9B8B-60995D8ED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01301CF-C9A0-4588-BEEF-288FE18B5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F3F1AD-81FD-476F-949D-A74ABB72F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4A86868-3A4E-44E0-ADBC-C868FB4A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B03908-2A1B-4B84-B967-B3FC6353A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D374AE9-0300-4B04-A220-36CD4630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C971A6-E942-4784-A53C-19F25CDE3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3AF6A96-DFFF-4C87-88F7-B24BDBFC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10209B-24F4-42D0-B3F7-3AD94D77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E76FC23-0767-41D6-9099-E1718DE38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226014-D343-4367-87A4-14801216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5DCEE-5E2D-45F2-8CA3-916547BA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41B7-61F0-4F08-97CF-D21463578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4E7AED-667C-4C38-8699-F8DE2128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C114A-78C8-4C3F-B421-71D69154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5D2A2-DFBB-4F40-B33C-183674C63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ACC18-BAA3-4A4C-9A25-92B584E6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2C81F-03D2-42E5-893C-80F913915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5DB85-E43C-4898-993C-4078D0AC4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2B908-E321-480A-80A4-987A61BE7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060DA5-0D63-4449-AA73-FAADE67BA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1A2A4B-2236-4394-9EF1-6E966C9AB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E55B71-4964-47F4-A9D1-0797A82EA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02A-64F0-4617-AD86-D214BE16E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7E1DCB-F3E1-4358-8EC9-D89AF607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5CE0A8-1C91-4250-BDA1-6D81BC0C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7AF5B-1154-48B6-A811-DAD7EA9B7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B3053-4510-4FB7-8BCC-585B64D9B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20BF7-39B9-4E3E-9184-E229EAB75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869AE-B2E3-42E4-89A1-FF478808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09000E-25DD-4260-979C-F2AD7CD7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250CA-8490-4229-9C0C-70756B95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295C2-B006-405F-B0F5-718746DD6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11A70-7EDC-4CE8-8AD9-3076DF2ED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A90A-1953-4CCD-A097-4BF22AC5C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263C8A-E16B-4EB7-8E02-EE834ED49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C2C91-C55B-41E8-8D3C-CEEBFC5A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1A263-E6B9-49CD-BAE6-20BD8126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499726-9177-4EC1-B42B-37E35B3E4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00281-93F6-4A79-874D-CC1DE89B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D78F3-7C0C-4B1F-B7E3-3119593A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E531A-4575-43DF-83F2-C10FBABF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F6DABE-D0E3-49AF-BF01-636FCB98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AA4D86-E234-4150-8B4D-9049706E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DCFC8-E243-477E-B0D4-39DE89507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B3C2-39F8-487F-AF5A-1F2DD239D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4C8D2-323D-4640-B3BF-0532815EC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77DA00-4F06-4F19-82CF-575EF82CC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032646-11FA-4762-A5D9-896FAC937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D6302A-BF72-4B5C-8E7D-1752636FA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BA462A-18A2-4CC8-9DB7-B53DA3356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71E917-5813-468B-8C00-99C5B9F67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E7516-A50D-450E-80BC-0E6C1BAA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F4E2E8-931F-4EDD-A1D6-0EB90A59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D44C08-0150-4AC9-8292-21761D1B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BDEA8-BE2D-48C0-ABB0-9E69DD3B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342-0BE4-4C14-AC2F-776A1CB44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EE7BFE-5947-416B-A4B5-402253A90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3A6F8-C483-4BC2-89B6-AD198ECB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52128-D60F-432C-9D08-A4956784C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E8A67B-C12C-4271-B3AC-266EA07AA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EBD837-7C1E-47FA-A597-918B59BBF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ABB8E5-3F95-416D-8C91-504D18B9A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C392D1-463B-4470-9C7D-3EB30BA6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6E0AD6-FF4E-44AE-ACBE-1F59652BC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F7236-A9E9-4E46-A368-055BA709F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2C78D3-7966-450D-861F-7A2DFE63F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FA75-446C-4D72-AA7C-89B83B01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F89200-136F-4A0C-9F87-6D7F1E4F7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9767D8-14D2-461B-A186-1C1A8284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41347-F3C1-4972-9D3A-9374B1827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AEBF36-92AA-4D34-B597-F50685B7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568657-C18B-4F3B-98F1-D8C2E42C5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DE94E2-883D-4EBB-B7E8-247A17D2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F37094-F03B-4511-97C8-9A76D228F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4B51DF-1E0A-4636-980A-9DBEED0D0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382D0C-735F-42F2-85CD-860489354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88FC39-A195-48B5-A17C-FDA5DBE43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6D180-A9CF-4B7A-894A-BCDEE298D9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0C36-21C3-4674-96EE-630CA2E2380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982B2-2C37-448C-A42A-922BE23F24D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DE18-610F-4270-ACE2-CAF4658D25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42F8-4658-4A21-B3DF-33E4C45764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DDE74-9654-41FD-9041-A98CE0F3FB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F5107-6E75-4B9E-B87A-6AC3B7EDDFA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FA59A-734B-4E1E-92A9-36AE9FE7C3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8C95-89DB-4530-8F0F-C23F5E1C6B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814D-E0FE-41E9-8912-DE972557B8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DD39A-D674-4E07-8ED2-8FAAB8A799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F2BEB-E40F-4E08-88A6-7DDD337E53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63D1-9DD6-456A-B512-2D847B3B47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6116-4918-4DE8-ACDA-7F5148A1D1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4C10D-899E-470B-ABBF-ED7F65C35A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8E110-AF7D-402C-A125-7E4A91720F3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A5B6-849F-428B-AB76-60E966D7D5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5D67-2BAA-47F8-9AA3-308442199E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B880-C23B-4FA1-9FE8-07D09684EC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6C252-560B-4E4D-BD28-8B25B2165B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7DA56-6380-4228-B312-4EE7C6940B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1D2F-29C9-40E8-9E48-B5B7E59A35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9FB8-7207-4C86-B318-D20B591EAE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3A78-7EAF-46F7-8027-41508E12D1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0839C-E0EA-4E49-94BB-90AB2782E7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5C4C9-7820-4727-9C5B-E55260E9D8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271A-C762-4EEE-BCD5-4C1C170845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7DBF0-F451-4B7B-82B5-6F1D2A92C3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F918A-B7AC-4587-A137-30ABE04A0F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83234-BCBC-4651-A3D9-E1FDAB6B08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70FE7-B539-463E-917E-DC9362E604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913CA-817B-4F54-AF8A-4FE4586148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116B-3188-4B9B-9FE5-44AE754423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BB2EF-43FC-4529-A01E-9A3FE8978D9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9DC9-57F1-44F1-BA39-40F2151568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149A-9D75-4968-9F4D-9311C8F8CA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D3A8A-C22F-4378-9F19-EB2A6CBA99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1B643-D398-4847-915B-3AF11FFBCE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D4AEA-EC74-4083-A15B-A10276C5D9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CD2AE-0527-4E68-9FC3-400D1D83C6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EA34B-B958-421F-A041-24517C71BB2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0F39-157C-48E0-B5C6-F34731E5FB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DAEDB-9FDA-4BA0-89DF-C1037E4609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7D84-32D0-498E-A0CF-55BD4F08E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C8C1C-588A-4213-A5F5-823F5F06C6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6B5B6-D921-4D61-AFDC-A3B4B701D2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661C5-0DAA-4BF4-B35B-AFEF408482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66B7-1CEF-4F1F-80DB-80C03BFCDC4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1879-483B-4996-9DE8-0BBB1C0972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E2845-25A8-45DF-814E-763E00BBC9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1238400" y="2909880"/>
            <a:ext cx="6667200" cy="10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6737" descr=""/>
          <p:cNvPicPr/>
          <p:nvPr/>
        </p:nvPicPr>
        <p:blipFill>
          <a:blip r:embed="rId1"/>
          <a:stretch/>
        </p:blipFill>
        <p:spPr>
          <a:xfrm>
            <a:off x="785880" y="1557360"/>
            <a:ext cx="757224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图片 115713" descr=""/>
          <p:cNvPicPr/>
          <p:nvPr/>
        </p:nvPicPr>
        <p:blipFill>
          <a:blip r:embed="rId1"/>
          <a:stretch/>
        </p:blipFill>
        <p:spPr>
          <a:xfrm>
            <a:off x="530280" y="1854360"/>
            <a:ext cx="8020080" cy="2828880"/>
          </a:xfrm>
          <a:prstGeom prst="rect">
            <a:avLst/>
          </a:prstGeom>
          <a:ln w="0">
            <a:noFill/>
          </a:ln>
        </p:spPr>
      </p:pic>
      <p:sp>
        <p:nvSpPr>
          <p:cNvPr id="1467" name="矩形 115715"/>
          <p:cNvSpPr/>
          <p:nvPr/>
        </p:nvSpPr>
        <p:spPr>
          <a:xfrm>
            <a:off x="7875720" y="4378320"/>
            <a:ext cx="3697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4689" descr=""/>
          <p:cNvPicPr/>
          <p:nvPr/>
        </p:nvPicPr>
        <p:blipFill>
          <a:blip r:embed="rId1"/>
          <a:stretch/>
        </p:blipFill>
        <p:spPr>
          <a:xfrm>
            <a:off x="760320" y="1268280"/>
            <a:ext cx="754380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3665" descr=""/>
          <p:cNvPicPr/>
          <p:nvPr/>
        </p:nvPicPr>
        <p:blipFill>
          <a:blip r:embed="rId1"/>
          <a:stretch/>
        </p:blipFill>
        <p:spPr>
          <a:xfrm>
            <a:off x="552600" y="900000"/>
            <a:ext cx="8020080" cy="534348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3666"/>
          <p:cNvSpPr/>
          <p:nvPr/>
        </p:nvSpPr>
        <p:spPr>
          <a:xfrm>
            <a:off x="7846920" y="2587680"/>
            <a:ext cx="370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112641" descr=""/>
          <p:cNvPicPr/>
          <p:nvPr/>
        </p:nvPicPr>
        <p:blipFill>
          <a:blip r:embed="rId1"/>
          <a:stretch/>
        </p:blipFill>
        <p:spPr>
          <a:xfrm>
            <a:off x="414360" y="1506600"/>
            <a:ext cx="7981920" cy="2019240"/>
          </a:xfrm>
          <a:prstGeom prst="rect">
            <a:avLst/>
          </a:prstGeom>
          <a:ln w="0">
            <a:noFill/>
          </a:ln>
        </p:spPr>
      </p:pic>
      <p:pic>
        <p:nvPicPr>
          <p:cNvPr id="1472" name="图片 112642" descr=""/>
          <p:cNvPicPr/>
          <p:nvPr/>
        </p:nvPicPr>
        <p:blipFill>
          <a:blip r:embed="rId2"/>
          <a:stretch/>
        </p:blipFill>
        <p:spPr>
          <a:xfrm>
            <a:off x="851040" y="3863880"/>
            <a:ext cx="7562880" cy="1266840"/>
          </a:xfrm>
          <a:prstGeom prst="rect">
            <a:avLst/>
          </a:prstGeom>
          <a:ln w="0">
            <a:noFill/>
          </a:ln>
        </p:spPr>
      </p:pic>
      <p:sp>
        <p:nvSpPr>
          <p:cNvPr id="1473" name="矩形 112643"/>
          <p:cNvSpPr/>
          <p:nvPr/>
        </p:nvSpPr>
        <p:spPr>
          <a:xfrm>
            <a:off x="7704000" y="4702320"/>
            <a:ext cx="370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111617" descr=""/>
          <p:cNvPicPr/>
          <p:nvPr/>
        </p:nvPicPr>
        <p:blipFill>
          <a:blip r:embed="rId1"/>
          <a:stretch/>
        </p:blipFill>
        <p:spPr>
          <a:xfrm>
            <a:off x="771480" y="1957320"/>
            <a:ext cx="760104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110593" descr=""/>
          <p:cNvPicPr/>
          <p:nvPr/>
        </p:nvPicPr>
        <p:blipFill>
          <a:blip r:embed="rId1"/>
          <a:stretch/>
        </p:blipFill>
        <p:spPr>
          <a:xfrm>
            <a:off x="525600" y="723960"/>
            <a:ext cx="8010360" cy="6076800"/>
          </a:xfrm>
          <a:prstGeom prst="rect">
            <a:avLst/>
          </a:prstGeom>
          <a:ln w="0">
            <a:noFill/>
          </a:ln>
        </p:spPr>
      </p:pic>
      <p:sp>
        <p:nvSpPr>
          <p:cNvPr id="1476" name="矩形 110594"/>
          <p:cNvSpPr/>
          <p:nvPr/>
        </p:nvSpPr>
        <p:spPr>
          <a:xfrm>
            <a:off x="7770960" y="3216240"/>
            <a:ext cx="3697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7" name="图片 109569" descr=""/>
          <p:cNvPicPr/>
          <p:nvPr/>
        </p:nvPicPr>
        <p:blipFill>
          <a:blip r:embed="rId1"/>
          <a:stretch/>
        </p:blipFill>
        <p:spPr>
          <a:xfrm>
            <a:off x="439560" y="784080"/>
            <a:ext cx="7963200" cy="5791320"/>
          </a:xfrm>
          <a:prstGeom prst="rect">
            <a:avLst/>
          </a:prstGeom>
          <a:ln w="0">
            <a:noFill/>
          </a:ln>
        </p:spPr>
      </p:pic>
      <p:sp>
        <p:nvSpPr>
          <p:cNvPr id="1478" name="矩形 109570"/>
          <p:cNvSpPr/>
          <p:nvPr/>
        </p:nvSpPr>
        <p:spPr>
          <a:xfrm>
            <a:off x="7694640" y="1596960"/>
            <a:ext cx="36972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4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108545" descr=""/>
          <p:cNvPicPr/>
          <p:nvPr/>
        </p:nvPicPr>
        <p:blipFill>
          <a:blip r:embed="rId1"/>
          <a:stretch/>
        </p:blipFill>
        <p:spPr>
          <a:xfrm>
            <a:off x="684360" y="1268280"/>
            <a:ext cx="74768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124929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001000" cy="55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3905" descr=""/>
          <p:cNvPicPr/>
          <p:nvPr/>
        </p:nvPicPr>
        <p:blipFill>
          <a:blip r:embed="rId1"/>
          <a:stretch/>
        </p:blipFill>
        <p:spPr>
          <a:xfrm>
            <a:off x="585720" y="1652760"/>
            <a:ext cx="7972560" cy="35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2881" descr=""/>
          <p:cNvPicPr/>
          <p:nvPr/>
        </p:nvPicPr>
        <p:blipFill>
          <a:blip r:embed="rId1"/>
          <a:stretch/>
        </p:blipFill>
        <p:spPr>
          <a:xfrm>
            <a:off x="539640" y="981000"/>
            <a:ext cx="80582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121857" descr=""/>
          <p:cNvPicPr/>
          <p:nvPr/>
        </p:nvPicPr>
        <p:blipFill>
          <a:blip r:embed="rId1"/>
          <a:stretch/>
        </p:blipFill>
        <p:spPr>
          <a:xfrm>
            <a:off x="487440" y="841320"/>
            <a:ext cx="8058240" cy="5581800"/>
          </a:xfrm>
          <a:prstGeom prst="rect">
            <a:avLst/>
          </a:prstGeom>
          <a:ln w="0">
            <a:noFill/>
          </a:ln>
        </p:spPr>
      </p:pic>
      <p:sp>
        <p:nvSpPr>
          <p:cNvPr id="1437" name="矩形 121858"/>
          <p:cNvSpPr/>
          <p:nvPr/>
        </p:nvSpPr>
        <p:spPr>
          <a:xfrm>
            <a:off x="912960" y="4492800"/>
            <a:ext cx="766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1859"/>
          <p:cNvSpPr/>
          <p:nvPr/>
        </p:nvSpPr>
        <p:spPr>
          <a:xfrm>
            <a:off x="988920" y="5216400"/>
            <a:ext cx="76694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1860"/>
          <p:cNvSpPr/>
          <p:nvPr/>
        </p:nvSpPr>
        <p:spPr>
          <a:xfrm>
            <a:off x="922320" y="6006960"/>
            <a:ext cx="766908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120833" descr=""/>
          <p:cNvPicPr/>
          <p:nvPr/>
        </p:nvPicPr>
        <p:blipFill>
          <a:blip r:embed="rId1"/>
          <a:stretch/>
        </p:blipFill>
        <p:spPr>
          <a:xfrm>
            <a:off x="490680" y="695160"/>
            <a:ext cx="8029440" cy="5886720"/>
          </a:xfrm>
          <a:prstGeom prst="rect">
            <a:avLst/>
          </a:prstGeom>
          <a:ln w="0">
            <a:noFill/>
          </a:ln>
        </p:spPr>
      </p:pic>
      <p:sp>
        <p:nvSpPr>
          <p:cNvPr id="1441" name="矩形 120834"/>
          <p:cNvSpPr/>
          <p:nvPr/>
        </p:nvSpPr>
        <p:spPr>
          <a:xfrm>
            <a:off x="846000" y="1482840"/>
            <a:ext cx="76694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0835"/>
          <p:cNvSpPr/>
          <p:nvPr/>
        </p:nvSpPr>
        <p:spPr>
          <a:xfrm>
            <a:off x="941400" y="2292480"/>
            <a:ext cx="766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120836"/>
          <p:cNvSpPr/>
          <p:nvPr/>
        </p:nvSpPr>
        <p:spPr>
          <a:xfrm>
            <a:off x="969840" y="3054240"/>
            <a:ext cx="76694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120837"/>
          <p:cNvSpPr/>
          <p:nvPr/>
        </p:nvSpPr>
        <p:spPr>
          <a:xfrm>
            <a:off x="969840" y="3825720"/>
            <a:ext cx="766944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120838"/>
          <p:cNvSpPr/>
          <p:nvPr/>
        </p:nvSpPr>
        <p:spPr>
          <a:xfrm>
            <a:off x="941400" y="4616280"/>
            <a:ext cx="766908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120839"/>
          <p:cNvSpPr/>
          <p:nvPr/>
        </p:nvSpPr>
        <p:spPr>
          <a:xfrm>
            <a:off x="903240" y="5388120"/>
            <a:ext cx="76694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0840"/>
          <p:cNvSpPr/>
          <p:nvPr/>
        </p:nvSpPr>
        <p:spPr>
          <a:xfrm>
            <a:off x="855720" y="6207120"/>
            <a:ext cx="766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19809" descr=""/>
          <p:cNvPicPr/>
          <p:nvPr/>
        </p:nvPicPr>
        <p:blipFill>
          <a:blip r:embed="rId1"/>
          <a:stretch/>
        </p:blipFill>
        <p:spPr>
          <a:xfrm>
            <a:off x="738360" y="952560"/>
            <a:ext cx="7610400" cy="525780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19810"/>
          <p:cNvSpPr/>
          <p:nvPr/>
        </p:nvSpPr>
        <p:spPr>
          <a:xfrm>
            <a:off x="750960" y="977760"/>
            <a:ext cx="7669080" cy="411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119811"/>
          <p:cNvSpPr/>
          <p:nvPr/>
        </p:nvSpPr>
        <p:spPr>
          <a:xfrm>
            <a:off x="741240" y="1739880"/>
            <a:ext cx="76694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119812"/>
          <p:cNvSpPr/>
          <p:nvPr/>
        </p:nvSpPr>
        <p:spPr>
          <a:xfrm>
            <a:off x="674640" y="2549520"/>
            <a:ext cx="76694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119813"/>
          <p:cNvSpPr/>
          <p:nvPr/>
        </p:nvSpPr>
        <p:spPr>
          <a:xfrm>
            <a:off x="770040" y="3330720"/>
            <a:ext cx="766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119814"/>
          <p:cNvSpPr/>
          <p:nvPr/>
        </p:nvSpPr>
        <p:spPr>
          <a:xfrm>
            <a:off x="760320" y="4121280"/>
            <a:ext cx="76694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矩形 119815"/>
          <p:cNvSpPr/>
          <p:nvPr/>
        </p:nvSpPr>
        <p:spPr>
          <a:xfrm>
            <a:off x="789120" y="4883040"/>
            <a:ext cx="766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矩形 119816"/>
          <p:cNvSpPr/>
          <p:nvPr/>
        </p:nvSpPr>
        <p:spPr>
          <a:xfrm>
            <a:off x="655560" y="5645160"/>
            <a:ext cx="766944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6" name="图片 118785" descr=""/>
          <p:cNvPicPr/>
          <p:nvPr/>
        </p:nvPicPr>
        <p:blipFill>
          <a:blip r:embed="rId1"/>
          <a:stretch/>
        </p:blipFill>
        <p:spPr>
          <a:xfrm>
            <a:off x="523800" y="728640"/>
            <a:ext cx="8001000" cy="5857920"/>
          </a:xfrm>
          <a:prstGeom prst="rect">
            <a:avLst/>
          </a:prstGeom>
          <a:ln w="0">
            <a:noFill/>
          </a:ln>
        </p:spPr>
      </p:pic>
      <p:sp>
        <p:nvSpPr>
          <p:cNvPr id="1457" name="矩形 118786"/>
          <p:cNvSpPr/>
          <p:nvPr/>
        </p:nvSpPr>
        <p:spPr>
          <a:xfrm>
            <a:off x="798480" y="2301840"/>
            <a:ext cx="766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矩形 118787"/>
          <p:cNvSpPr/>
          <p:nvPr/>
        </p:nvSpPr>
        <p:spPr>
          <a:xfrm>
            <a:off x="922320" y="3083040"/>
            <a:ext cx="766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118788"/>
          <p:cNvSpPr/>
          <p:nvPr/>
        </p:nvSpPr>
        <p:spPr>
          <a:xfrm>
            <a:off x="932040" y="3892680"/>
            <a:ext cx="766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118789"/>
          <p:cNvSpPr/>
          <p:nvPr/>
        </p:nvSpPr>
        <p:spPr>
          <a:xfrm>
            <a:off x="912960" y="4654440"/>
            <a:ext cx="766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8790"/>
          <p:cNvSpPr/>
          <p:nvPr/>
        </p:nvSpPr>
        <p:spPr>
          <a:xfrm>
            <a:off x="922320" y="5407200"/>
            <a:ext cx="766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8791"/>
          <p:cNvSpPr/>
          <p:nvPr/>
        </p:nvSpPr>
        <p:spPr>
          <a:xfrm>
            <a:off x="855720" y="6168960"/>
            <a:ext cx="7669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7761" descr=""/>
          <p:cNvPicPr/>
          <p:nvPr/>
        </p:nvPicPr>
        <p:blipFill>
          <a:blip r:embed="rId1"/>
          <a:stretch/>
        </p:blipFill>
        <p:spPr>
          <a:xfrm>
            <a:off x="528480" y="1690560"/>
            <a:ext cx="8087040" cy="3476880"/>
          </a:xfrm>
          <a:prstGeom prst="rect">
            <a:avLst/>
          </a:prstGeom>
          <a:ln w="0">
            <a:noFill/>
          </a:ln>
        </p:spPr>
      </p:pic>
      <p:sp>
        <p:nvSpPr>
          <p:cNvPr id="1464" name="矩形 117762"/>
          <p:cNvSpPr/>
          <p:nvPr/>
        </p:nvSpPr>
        <p:spPr>
          <a:xfrm>
            <a:off x="7885080" y="4702320"/>
            <a:ext cx="370080" cy="411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21:44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